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BD5-A67B-4623-8642-32E696F6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CE8-0D4E-4E43-8F0D-A97DCA5A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701-16DF-4CAF-9C21-A9E72900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84E-7221-4149-9EBB-FC002B5A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4728-BE6B-4E98-AE67-BED38A66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53E0-22D6-47B5-ADCC-3295798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1E86-AFC3-4232-BB01-2B6B2EF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D04-BC16-4723-9E26-7AB5727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0D1-FB09-41D1-B610-8B076C70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8D1-D0CC-45BD-B5D3-FBBBF3D7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5E81-775E-4DAA-B98A-623F4E4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3F8-D812-4661-A5CB-4DFD9F6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C01-7759-424E-B103-DFE1521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86A8-6FF8-443F-9F14-3663349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0C5-761A-469D-9B17-A9DDD81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5E2-D461-4AE2-95EF-820D74CF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C48-6E29-49B7-A2BF-C7836AE9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AEAE-26A0-4FBE-83DF-6FE0A043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97C2-C6FF-46FA-B882-0C4FAB10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F7DB-D5E0-4CC8-87AA-A38C065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7B5A-F3FC-4884-9F70-CFC5065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1CF3-0238-4E00-80BA-76F03C0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781-A65F-4914-8051-BA4A576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4CCB-B181-40B5-BA1F-4D96F394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736C-29EB-4EE3-AF7F-AA1CC70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E19D-5CAE-4D29-A294-2E96981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E894-D60C-47B6-87E4-77A6E92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3125-A934-4F23-93A3-53A27C3C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BDE9-59F5-47BD-8A16-927AEB8C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4D1C-4E40-49A2-BE2B-7DCFD72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618-DC0E-4861-8CFA-607532E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FB5-06EF-49D5-8B53-C18E72B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18A-171B-4B5D-9E53-A3301FD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B95-F811-4205-B9B7-9736705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FCF-0FBC-4ECE-8F76-9B3F286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650-2DFC-44F4-9CFD-E57995BA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97A-115C-4D73-A0C0-DDEE65F38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66D-295C-43E8-8DA7-1ACE27D1D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7867-C6A1-45E2-B470-EAB622F1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ienvenue la casa de Sharon &amp; Ozzy Osbourn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124080" y="34290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380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cuarto es mis favorito color violeta. Las paredes son blancas. Y las hojas son simplemente precio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 sala es  la color azul. Hay flores en esta sala e precioso.. La sala es una luga perfecto para desca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76920" y="3808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edor es grande e lindo . La color es azul y beige. Sharon y ozzy osborne gusta de comeier aq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6858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314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4800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6483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cina es azul. Sharon y ozzy gusta de cocinar aqui. La concina e li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Patio es grande  e azul e blanco e lindo. La flores esta lindas. Sharon y ozzy gusta de descasa aqui. Le gusta das azul e bran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7:02:23Z</dcterms:created>
  <dc:creator>edill</dc:creator>
  <dc:description/>
  <dc:language>en-US</dc:language>
  <cp:lastModifiedBy>edill</cp:lastModifiedBy>
  <dcterms:modified xsi:type="dcterms:W3CDTF">2012-04-25T13:23:33Z</dcterms:modified>
  <cp:revision>5</cp:revision>
  <dc:subject/>
  <dc:title>Bienvenue la casa de Sharon &amp; Ozzy Osbourn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